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33161-DA7F-4D9D-B664-4FC076236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46A8-AF4D-4E5D-A053-72D589D47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BFAC7-301E-4AD3-BFFC-6CA888E8C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E8864-DCFA-483A-8192-B999B6D3F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1F00-F810-4AB6-9A6B-D583ED23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C88A-66BA-40F0-AB5C-CBDD9CF6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F4C15-ED5C-4184-BBB4-DE872248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45E2B-2224-47F8-B60D-60D60B60D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FB151-E060-4A24-9E9B-1C46B04D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E7F4-5A6D-49C5-8880-0BA4ED8E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9E4F-308B-419F-82CC-B268C813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E05D-6D14-48A8-A0E8-2BEBFD5C8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D378-BE6E-45B9-9012-67609088EA1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588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ook Antiqua"/>
              </a:rPr>
              <a:t>EL PLAN DE MEDIO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CuadroTexto"/>
          <p:cNvSpPr/>
          <p:nvPr/>
        </p:nvSpPr>
        <p:spPr>
          <a:xfrm>
            <a:off x="500040" y="1028880"/>
            <a:ext cx="82152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lan de medios es la solución a la difusión de la campaña y se lleva a cabo mediante la planificación de medios, procedimiento que aplica diferentes técnicas para resolver cómo difundir masivamente un mensaje de la manera más </a:t>
            </a:r>
            <a:r>
              <a:rPr b="0" i="1" lang="es-ES" sz="2800" spc="-1" strike="noStrike">
                <a:solidFill>
                  <a:srgbClr val="000000"/>
                </a:solidFill>
                <a:latin typeface="Book Antiqua"/>
              </a:rPr>
              <a:t>rentable y eficaz.</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Para esto es necesario tener identificado el grupo objetivo comunicacional al cual queremos llegar con el mens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CuadroTexto"/>
          <p:cNvSpPr/>
          <p:nvPr/>
        </p:nvSpPr>
        <p:spPr>
          <a:xfrm>
            <a:off x="428760" y="500040"/>
            <a:ext cx="828648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Etapas de elaboración del Plan de Medio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1. Definición de objetivos de medio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unto de partida es fijar los objetivos de medios los que se establecen en términos de cobertura (número de personas del público objetivo con las que se quiere contactar), frecuencia (número de veces que queremos que este público perciba el mensaje) y recuerdo (nivel de efecto sobre la memoria que se quiere provocar, entendiendo que con ello aumentan las posibilidades de lograr la reacción buscada).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428760" y="857160"/>
            <a:ext cx="82864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2. Elaboración de la estrategia de medio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ección de los medios que mejor respondan a los objetivos y a la creatividad de la campaña. A partir de esta primera consideración, la decisión se toma en función de dos aspectos principale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0" lang="es-ES" sz="2800" spc="-1" strike="noStrike">
                <a:solidFill>
                  <a:srgbClr val="000000"/>
                </a:solidFill>
                <a:latin typeface="Book Antiqua"/>
              </a:rPr>
              <a:t>alcance óptimo de la audiencia del medio con el público objetivo de la campaña</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0" lang="es-ES" sz="2800" spc="-1" strike="noStrike">
                <a:solidFill>
                  <a:srgbClr val="000000"/>
                </a:solidFill>
                <a:latin typeface="Book Antiqua"/>
              </a:rPr>
              <a:t>presupuesto disponible, teniendo en cuenta las tarifas vigentes y también las posibilidades de negociación que tenemos frente al o los medi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642960" y="1357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3. Selección de soport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A la elección de medios le sigue la selección de los soportes concretos </a:t>
            </a:r>
            <a:r>
              <a:rPr b="0" lang="es-ES" sz="2800" spc="-1" strike="noStrike">
                <a:solidFill>
                  <a:srgbClr val="000000"/>
                </a:solidFill>
                <a:latin typeface="Book Antiqua"/>
              </a:rPr>
              <a:t>en los que se va a insertar el mensaje, por ejemplo: si decidimos usar el diario LA VOZ DEL PUERTO, habrá que decidir si se usa como soporte una página completa o una inserción,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1 CuadroTexto"/>
          <p:cNvSpPr/>
          <p:nvPr/>
        </p:nvSpPr>
        <p:spPr>
          <a:xfrm>
            <a:off x="571680" y="1030320"/>
            <a:ext cx="80010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4. Programación o distribución del presupuest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la distribución del presupuesto disponible entre los soportes específicos seleccionados (espacios de prensa, programación de TV o radio, soportes exteriores ...) durante el periodo total que va a durar la campaña.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 este paso se le denomina también distribución de impact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571680" y="857160"/>
            <a:ext cx="79293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5. Evaluación: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roceso de planificación finaliza con la medición de los resultados obtenidos a fin de conocer el nivel de acierto en la </a:t>
            </a:r>
            <a:r>
              <a:rPr b="0" i="1" lang="es-ES" sz="2800" spc="-1" strike="noStrike">
                <a:solidFill>
                  <a:srgbClr val="000000"/>
                </a:solidFill>
                <a:latin typeface="Book Antiqua"/>
              </a:rPr>
              <a:t>cobertura, frecuencia y recuerdo previsto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Cobertura bruta; cobertura neta o alcance; frecuencia de exposiciones; frecuencia efectiva; rating; costo del soporte;  etcéte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5:32:11Z</dcterms:created>
  <dc:creator>Manuel Marquez</dc:creator>
  <dc:description/>
  <dc:language>en-US</dc:language>
  <cp:lastModifiedBy>Manuel Marquez</cp:lastModifiedBy>
  <dcterms:modified xsi:type="dcterms:W3CDTF">2003-01-12T05:47:10Z</dcterms:modified>
  <cp:revision>1</cp:revision>
  <dc:subject/>
  <dc:title>EL PLAN DE MEDIOS</dc:title>
</cp:coreProperties>
</file>